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  <p:custShowLst>
    <p:custShow name="Nowy niestandardowy pokaz slajd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ADC7C-5DB9-4671-969E-0E4E4D853B49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Konspekt lekcji z biologii – klasa III gimnazj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Dział: Ochrona przyr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Temat lekcji: Parki narodowe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Cele lek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uczeń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tłumaczy pojęcie „park narodow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wskazuje na mapie Polski parki narod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prezentuje wybrane parki narod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omawia osobliwości parków narod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Metody i formy pracy: pokaz multimedial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Środki dydaktyczne: komputer, projektor multimedialny, ek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Prezentacja omawiana przez uczni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90B-A459-4C2D-966C-CDD1C567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98E-35B3-46DF-9DE6-D3EB2CB2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94B-DEED-4E57-9A83-C99A4874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423-017F-4455-B1A8-4904B791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DDD-6CAF-4B2D-BE30-8D60C6CA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FB0-BD11-41FA-9DF6-5C6850CD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C71-2B5D-43EE-A300-4337EE25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064-7EC0-4AFD-BC3C-A8CEDBB8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095-650B-470E-B1FC-48EDC224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BA0-11E2-436D-84E7-92461A5C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3EA-9EC5-494E-8DDA-E03AC72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030-376D-4B7A-BB09-6BD2DEE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8D016-5F8D-443C-AD2F-56A80ADFD6E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60000" y="434880"/>
            <a:ext cx="9070920" cy="658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spekt lekcji z biologii – klasa III gimnazj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ał: Ochrona przyr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mat lekcji: Parki narodowe w Pols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le lekc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cze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łumaczy pojęcie „park narodow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skazuje na mapie Polski parki narod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ezentuje wybrane parki narod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mawia osobliwości parków narod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etody i formy pracy: pokaz multimedia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rodki dydaktyczne: komputer, projektor multimedialny, ek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ezentacja omawiana przez uczni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0" y="23940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400"/>
                <a:gridCol w="1767240"/>
                <a:gridCol w="177948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0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łotniak staw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ny podmokłe 90% powierzch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z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łotniak staw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17600" y="774720"/>
          <a:ext cx="5521320" cy="844560"/>
        </p:xfrm>
        <a:graphic>
          <a:graphicData uri="http://schemas.openxmlformats.org/drawingml/2006/table">
            <a:tbl>
              <a:tblPr/>
              <a:tblGrid>
                <a:gridCol w="5521320"/>
              </a:tblGrid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885960"/>
            <a:ext cx="903600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arwi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546720" cy="3181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jcow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pe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ki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czyk, cha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perz, bors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5118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>UM</cp:lastModifiedBy>
  <dcterms:modified xsi:type="dcterms:W3CDTF">2010-05-21T08:54:27Z</dcterms:modified>
  <cp:revision>14</cp:revision>
  <dc:subject/>
  <dc:title>Slajd 1</dc:title>
</cp:coreProperties>
</file>